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920-2543-4072-9AF5-310B8638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D77-CA58-4FD4-9ADA-F81F8978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D0D-BC86-4479-80D8-21A7039B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561-E01F-481E-BD8F-E67FBF4B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4C6-B10F-43B1-94C7-DEB7E8B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0C6-26C9-4ED5-A148-7FE910E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422-36EA-4B4B-B42E-42EA83F9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685-CF77-4565-B1B9-73A1E43E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BEF-496D-43A2-91C1-90FCF89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1B8-D613-4A47-BEE9-28B3463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9F6-C2A4-4EA2-B8FB-8AF05BA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B70-F819-4663-AB16-98B6214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EA0-F232-41B6-9343-A087A9FA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a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15000" y="171360"/>
            <a:ext cx="7567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Influencing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son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erest Groups SINGL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Opinion 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nd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7040" y="506520"/>
            <a:ext cx="5970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didates/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ed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atchdog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ation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or Re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bel, 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" y="35712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hey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/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ribes, “Gif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I: Political Par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rt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omas 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mocratic Republ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ir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opulists, Progr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Political Ide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beralism------------------Conserv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mocrats------------------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asic fundamental differences of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litical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onomic free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rty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me/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raight ticket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Major U.S.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mocr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gger Government, More role in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gulating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ing the less fortu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cial Freedom, Economic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gov’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Government, Les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litical Freedom, Economic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Indepe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pends, Moderate, Middle of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V. National Party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National Committe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National Party Chairpers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. National Conven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Every four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Write Platform with Plan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Nominate Party Presidential Candi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. State/Local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State committ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50 to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. Local Committ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Precinc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W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. Political Mach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Tammany Ha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. Role of Political Parti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losed &amp; Open Pri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off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for Third Party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y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ing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73160" y="171360"/>
            <a:ext cx="62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Election Process &amp;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lling Place; Prec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st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allo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bsentee Vo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240" y="228600"/>
            <a:ext cx="631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mar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ucus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pecial/Issu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esidential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ion;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v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(soft $, PACs)  -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2720" y="39600"/>
            <a:ext cx="490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mpaig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ittering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ndw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ersonal Attacks/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st Plain Fo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15:36Z</dcterms:created>
  <dc:creator>Chatham Central</dc:creator>
  <dc:description/>
  <dc:language>en-US</dc:language>
  <cp:lastModifiedBy>Chatham County</cp:lastModifiedBy>
  <cp:lastPrinted>2008-02-25T13:35:46Z</cp:lastPrinted>
  <dcterms:modified xsi:type="dcterms:W3CDTF">2009-06-15T17:13:59Z</dcterms:modified>
  <cp:revision>12</cp:revision>
  <dc:subject/>
  <dc:title>Political Parties Chapter 9</dc:title>
</cp:coreProperties>
</file>